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28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32.jpeg" ContentType="image/jpeg"/>
  <Override PartName="/ppt/media/image5.jpeg" ContentType="image/jpeg"/>
  <Override PartName="/ppt/media/image35.png" ContentType="image/png"/>
  <Override PartName="/ppt/media/image43.jpeg" ContentType="image/jpeg"/>
  <Override PartName="/ppt/media/image39.png" ContentType="image/png"/>
  <Override PartName="/ppt/media/image41.jpeg" ContentType="image/jpeg"/>
  <Override PartName="/ppt/media/image45.jpeg" ContentType="image/jpeg"/>
  <Override PartName="/ppt/media/image12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9.jpeg" ContentType="image/jpeg"/>
  <Override PartName="/ppt/media/image11.png" ContentType="image/png"/>
  <Override PartName="/ppt/media/image47.png" ContentType="image/png"/>
  <Override PartName="/ppt/media/image10.png" ContentType="image/png"/>
  <Override PartName="/ppt/media/image27.jpeg" ContentType="image/jpeg"/>
  <Override PartName="/ppt/media/image7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1F29-DB75-49EC-BC1F-4BA3C1D71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9111-2F1B-4615-87DA-8A2DA5B89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E5A8-A5A7-40C8-BA4F-FB4A047B1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A221-EF9C-4439-8789-1B731E7B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50E8-5F4E-496C-AA11-09D5813B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3E5-B212-4232-9733-F173DB5E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1E51-E39E-41A7-892E-C1899501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5062-30EB-471E-A0B0-719182AE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B4E0-27E9-43DB-AAAE-A9EDC094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398F-3F8C-43EA-B5FA-6F3BBCAE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EBF7-CB1B-4D88-BB02-4B8D8228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34B0-7EC4-41C9-B7BF-0969A360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FCA2-D3B3-4DAD-81B0-65564A96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42F6-92E3-4F48-9233-0A36DBBE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FB4-3F06-486A-894F-9E1DF4AE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FD03-9805-479D-9BFF-5A4A372E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46B3-838E-46DC-8B3E-383B6E0F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E9DA-6E20-4C86-8096-09E8BC09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0C97-03C0-4CE0-B9F5-43246258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A88F-4CF5-40DB-AB5A-0A09EC2B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809B9-1346-4329-8C1B-8795FE32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224BA-6659-4745-BB57-F60F4564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D8DAE-9EDE-4BE5-A39B-21FFAB92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1346B-403D-46FD-A40D-F004EAE9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CBCBC-EBB1-4D3C-8E18-ABF3EB70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708D-334E-45EC-89CF-AC3664A7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035F7-7893-4ECB-B20F-C361F288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25595-6739-4FB0-8FC4-8F3C638F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5A9A1-7551-4C3E-A9D1-C6CD8357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1CE5E-634E-4EFE-B655-99037D04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88FD7-05E5-4EAD-86DE-4E7AF275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7C455-6B52-4E7E-82C5-C6A2A40F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D2E90-2911-4FA7-86F9-A2FE6413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6430D-8DE2-41B7-9BAA-92C66DFD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1480A-37D7-42D5-9D2D-CD5D6BF5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C6A39-4FAC-4981-A799-66E42B22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11D1-727A-45E1-8D38-404B9459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985C4-4AD4-4A60-8FCC-75EE91F7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D6AEC-E702-4753-BF21-147E4536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F2B28-7C3E-4146-B59A-C25BE2E0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99A80-6B86-4BEA-A9B6-8F2A7E41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407B5-FD03-45BF-B0CF-FD002933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04AAB-D1BB-4787-9709-46997A0E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40C6E-13DA-4AC2-956B-44D6E226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F9529-0366-4CFB-9B9C-B03374AE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CC4D8-207F-45BB-B1B3-A8128C11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D0C52-D3A4-4A25-91EB-36923720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6F9-F4F8-4049-BEE6-ED7B41E2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473A7-2B56-44D2-BEB5-71C61703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DB540-5E47-40A2-A41D-D27B770C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CBEAA-D45C-48B8-A0F4-448C16C6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12F3F-E8AB-4F43-A550-F93301B2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73088-F1B5-4D79-A84D-D7A5CAF6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99C9D-1BFF-4EEB-8335-36DDEE26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05105-24D6-4F45-B3D9-F2939C84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F36F4-E334-48FB-94D0-E836CBC8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F76C7-8E0D-4EC4-86C5-9E4F8F79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1A99A-1E87-4D7A-9CE4-37567831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6BD2-4290-45A8-89F4-2D5FE6BF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4CA7B-9107-4A43-9226-D59BDE95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3DBC3-8712-4623-B0C0-6F9520E4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037AD-DD1D-40BE-92D1-DCF0C44F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E642D-CA7F-4696-84FA-E51BA610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B9837-F174-4450-B89A-AF774D24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9E630-21BE-4898-A5EF-B81661A8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08D8B-8AB3-480B-9515-65C3A8CC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2C3AC-CFA3-4529-A09F-4E5A9D0F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98B1E-4722-4C39-9F94-40531D42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56943-AA02-448E-A515-0A9E2C67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0508-5310-4893-B227-38B0F295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916C2-599B-4CAD-8FA3-0E4AF391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B8542-812E-4C62-9B64-4112BC3A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22B5D-E17F-40B3-BAD6-EC93BA65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F9A-5D56-4717-A858-FCD96699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47AA-9BFA-40C1-99F5-9C08D71D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2B1F-3C27-4346-A5B1-F6E202F5167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B39A-E177-45C1-828D-5D9B4EB1D32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E84A-24FA-4ECC-8A00-7003D7C2F44F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4A01-8B47-4C97-8427-1F8D0D7E9437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DF12-41E7-4A9C-A7B8-490ACE853CBA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0006-4BFC-4C7B-B4A3-EE2AE0C9DF22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838C-23B2-42EA-98CC-47BEEFF62B1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0B9C-DFCB-4CF9-8658-8CA32A0E72E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E164-484D-47C0-9ADD-9FDC41F6EBAD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48C8-34F8-4717-8665-038B49AB521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8866-41A0-4931-9754-675D1564367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A528-1AB1-4286-93C7-5CA95544C47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upload.wikimedia.org/wikipedia/commons/1/1b/Archaeopteryx_lithographica_%28Cast_of_London_Specimen%29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hyperlink" Target="http://images.google.com/imgres?imgurl=http://student.physics.upenn.edu/~aebrown/biocurious/insect-dorsal.jpg&amp;imgrefurl=http://biocurious.com/2006/07/30/amateur-entymology-insect-wing-nanostructure&amp;usg=__TIyMPXqShIeR09DpZW4pyJOXc-M=&amp;h=588&amp;w=771&amp;sz=35&amp;hl=en&amp;start=7&amp;itbs=1&amp;tbnid=7pROm5ONABAykM:&amp;tbnh=108&amp;tbnw=142&amp;prev=/images%3Fq%3Dinsect%2Bwing%26hl%3Den%26gbv%3D2%26tbs%3Disch:1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hyperlink" Target="http://images.google.com/imgres?imgurl=http://www.canids.org/gallery/Popup19385.jpg&amp;imgrefurl=http://www.canids.org/species/Vulpes_macrotis.htm&amp;usg=__m-Cp2xntBp-PVzIEk0CDaVkwcfQ=&amp;h=417&amp;w=600&amp;sz=29&amp;hl=en&amp;start=1&amp;itbs=1&amp;tbnid=-Ssoyr7txtmo1M:&amp;tbnh=94&amp;tbnw=135&amp;prev=/images%3Fq%3Dkit%2Bfox%26hl%3Den%26sa%3DG%26gbv%3D2%26tbs%3Disch:1" TargetMode="External"/><Relationship Id="rId3" Type="http://schemas.openxmlformats.org/officeDocument/2006/relationships/image" Target="../media/image40.jpeg"/><Relationship Id="rId4" Type="http://schemas.openxmlformats.org/officeDocument/2006/relationships/hyperlink" Target="http://images.google.com/imgres?imgurl=http://briefwit.files.wordpress.com/2009/04/red-fox.jpg&amp;imgrefurl=http://brief-wit.com/2009/04/&amp;usg=__hMu9T3BaJDutHRhbBpTkK2bGES8=&amp;h=2334&amp;w=3000&amp;sz=1831&amp;hl=en&amp;start=11&amp;itbs=1&amp;tbnid=EO7kl49DZnYcTM:&amp;tbnh=117&amp;tbnw=150&amp;prev=/images%3Fq%3Dred%2Bfox%26hl%3Den%26gbv%3D2%26tbs%3Disch:1" TargetMode="External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images.google.com/imgres?imgurl=http://www.sciencemuseum.org.uk/on-line/lifecycle/images/1-2-3-1-5-0-0-0-0-0-0.jpg&amp;imgrefurl=http://www.sciencemuseum.org.uk/on-line/lifecycle/50.asp&amp;usg=___EgyULe2RRdpfwHS6n-C-D33YOM=&amp;h=360&amp;w=360&amp;sz=17&amp;hl=en&amp;start=3&amp;um=1&amp;tbnid=o_1sL9P3jeyQyM:&amp;tbnh=121&amp;tbnw=121&amp;prev=/images%3Fq%3Dhuman%2Bembryo%26hl%3Den%26um%3D1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hyperlink" Target="http://www.google.com/imgres?imgurl=http://www.genetik.uni-koeln.de/groups/Leptin/images_leptin-home/fish_embryo1.jpg&amp;imgrefurl=http://www.genetik.uni-koeln.de/groups/Leptin/lep_res_fish.htm&amp;h=882&amp;w=827&amp;sz=37&amp;tbnid=saN1A83yi4OD0M:&amp;tbnh=232&amp;tbnw=218&amp;prev=/images%3Fq%3Dfish%2Bembryo%2Bpicture&amp;hl=en&amp;usg=__ZXdk6HMIvuWO6kRRbou_0bApsYs=&amp;ei=poCCS7nEGJDssQOEooSCBA&amp;sa=X&amp;oi=image_result&amp;resnum=3&amp;ct=image&amp;ved=0CA4Q9QEwAg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hyperlink" Target="http://images.google.com/imgres?imgurl=http://www.sciencemuseum.org.uk/on-line/lifecycle/images/1-2-3-1-5-0-0-0-0-0-0.jpg&amp;imgrefurl=http://www.sciencemuseum.org.uk/on-line/lifecycle/50.asp&amp;usg=___EgyULe2RRdpfwHS6n-C-D33YOM=&amp;h=360&amp;w=360&amp;sz=17&amp;hl=en&amp;start=3&amp;um=1&amp;tbnid=o_1sL9P3jeyQyM:&amp;tbnh=121&amp;tbnw=121&amp;prev=/images%3Fq%3Dhuman%2Bembryo%26hl%3Den%26um%3D1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images.google.com/imgres?imgurl=http://www.sciencemuseum.org.uk/on-line/lifecycle/images/1-2-3-1-5-0-0-0-0-0-0.jpg&amp;imgrefurl=http://www.sciencemuseum.org.uk/on-line/lifecycle/50.asp&amp;usg=___EgyULe2RRdpfwHS6n-C-D33YOM=&amp;h=360&amp;w=360&amp;sz=17&amp;hl=en&amp;start=3&amp;um=1&amp;tbnid=o_1sL9P3jeyQyM:&amp;tbnh=121&amp;tbnw=121&amp;prev=/images%3Fq%3Dhuman%2Bembryo%26hl%3Den%26um%3D1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hyperlink" Target="http://www.google.com/imgres?imgurl=http://www.genetik.uni-koeln.de/groups/Leptin/images_leptin-home/fish_embryo1.jpg&amp;imgrefurl=http://www.genetik.uni-koeln.de/groups/Leptin/lep_res_fish.htm&amp;h=882&amp;w=827&amp;sz=37&amp;tbnid=saN1A83yi4OD0M:&amp;tbnh=232&amp;tbnw=218&amp;prev=/images%3Fq%3Dfish%2Bembryo%2Bpicture&amp;hl=en&amp;usg=__ZXdk6HMIvuWO6kRRbou_0bApsYs=&amp;ei=poCCS7nEGJDssQOEooSCBA&amp;sa=X&amp;oi=image_result&amp;resnum=3&amp;ct=image&amp;ved=0CA4Q9QEwAg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hyperlink" Target="http://www.lakeshorepreserve.wisc.edu/insect-images/images/10_1%20monarch%20butterfly_JPG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itle 2" descr=""/>
          <p:cNvPicPr/>
          <p:nvPr/>
        </p:nvPicPr>
        <p:blipFill>
          <a:blip r:embed="rId1"/>
          <a:stretch/>
        </p:blipFill>
        <p:spPr>
          <a:xfrm>
            <a:off x="1792440" y="-6480"/>
            <a:ext cx="6522840" cy="19144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4"/>
          <p:cNvSpPr/>
          <p:nvPr/>
        </p:nvSpPr>
        <p:spPr>
          <a:xfrm>
            <a:off x="2666880" y="1981080"/>
            <a:ext cx="6477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mbryology Challen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ay cool Adapta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’s up with Fossi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s my arm really a w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of is in the amino aci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5"/>
          <p:cNvSpPr/>
          <p:nvPr/>
        </p:nvSpPr>
        <p:spPr>
          <a:xfrm>
            <a:off x="1523880" y="129528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rbel"/>
              </a:rPr>
              <a:t>Exploring Forms of Evidence for Evolutio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603360" y="-42840"/>
            <a:ext cx="8089920" cy="1268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Uroplatus fimbriatus gecko on Nosy Mangabe (Nosy Mangabe)"/>
          <p:cNvPicPr/>
          <p:nvPr/>
        </p:nvPicPr>
        <p:blipFill>
          <a:blip r:embed="rId2"/>
          <a:stretch/>
        </p:blipFill>
        <p:spPr>
          <a:xfrm>
            <a:off x="2209680" y="1066680"/>
            <a:ext cx="4721400" cy="4038840"/>
          </a:xfrm>
          <a:prstGeom prst="rect">
            <a:avLst/>
          </a:prstGeom>
          <a:ln w="0">
            <a:noFill/>
          </a:ln>
        </p:spPr>
      </p:pic>
      <p:sp>
        <p:nvSpPr>
          <p:cNvPr id="332" name="TextBox 5"/>
          <p:cNvSpPr/>
          <p:nvPr/>
        </p:nvSpPr>
        <p:spPr>
          <a:xfrm>
            <a:off x="990720" y="5867280"/>
            <a:ext cx="7315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An example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amouflage 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ecko on a Nosey Mangab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6"/>
          <p:cNvSpPr/>
          <p:nvPr/>
        </p:nvSpPr>
        <p:spPr>
          <a:xfrm>
            <a:off x="3886200" y="1752480"/>
            <a:ext cx="1447920" cy="2819520"/>
          </a:xfrm>
          <a:prstGeom prst="ellipse">
            <a:avLst/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457200" y="563868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mouflage:  </a:t>
            </a:r>
            <a:r>
              <a:rPr b="1" i="1" lang="en-US" sz="2400" spc="-1" strike="noStrike">
                <a:solidFill>
                  <a:srgbClr val="ffc000"/>
                </a:solidFill>
                <a:latin typeface="Arial"/>
              </a:rPr>
              <a:t>An adaptation that enables a species to blend in with their surrounding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534D-5CDD-4B9C-99B4-6605AF286C9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Content Placeholder 4" descr="resistant bacteria"/>
          <p:cNvPicPr/>
          <p:nvPr/>
        </p:nvPicPr>
        <p:blipFill>
          <a:blip r:embed="rId2"/>
          <a:stretch/>
        </p:blipFill>
        <p:spPr>
          <a:xfrm>
            <a:off x="1676520" y="1143000"/>
            <a:ext cx="6350040" cy="190512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533520" y="3124080"/>
            <a:ext cx="845820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number of bacteria are resistant to the antibio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se bacteria survive to reproduce more  antibiotic resistant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the entire population quickly becomes  antibiotic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4" descr=""/>
          <p:cNvPicPr/>
          <p:nvPr/>
        </p:nvPicPr>
        <p:blipFill>
          <a:blip r:embed="rId1"/>
          <a:stretch/>
        </p:blipFill>
        <p:spPr>
          <a:xfrm>
            <a:off x="146160" y="-42840"/>
            <a:ext cx="8851680" cy="1042920"/>
          </a:xfrm>
          <a:prstGeom prst="rect">
            <a:avLst/>
          </a:prstGeom>
          <a:ln w="0">
            <a:noFill/>
          </a:ln>
        </p:spPr>
      </p:pic>
      <p:sp>
        <p:nvSpPr>
          <p:cNvPr id="340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033F-EEEC-40D3-AC39-B4D87E6B38C2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6"/>
          <p:cNvSpPr/>
          <p:nvPr/>
        </p:nvSpPr>
        <p:spPr>
          <a:xfrm>
            <a:off x="76320" y="1523880"/>
            <a:ext cx="861048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Fossils provide snapshots of the p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Fossils show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rbel"/>
              </a:rPr>
              <a:t>transitional structures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hat link present day organisms to early ances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orbel"/>
              </a:rPr>
              <a:t>Ultimately shows how new species are derived from older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219240" y="128520"/>
            <a:ext cx="8474040" cy="8049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File:Archaeopteryx lithographica (Cast of London Specimen)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28800" y="1066680"/>
            <a:ext cx="57913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4" descr=""/>
          <p:cNvPicPr/>
          <p:nvPr/>
        </p:nvPicPr>
        <p:blipFill>
          <a:blip r:embed="rId1"/>
          <a:stretch/>
        </p:blipFill>
        <p:spPr>
          <a:xfrm>
            <a:off x="530280" y="-42840"/>
            <a:ext cx="8163000" cy="1195200"/>
          </a:xfrm>
          <a:prstGeom prst="rect">
            <a:avLst/>
          </a:prstGeom>
          <a:ln w="0">
            <a:noFill/>
          </a:ln>
        </p:spPr>
      </p:pic>
      <p:sp>
        <p:nvSpPr>
          <p:cNvPr id="345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730E-0628-4A8D-AB45-F6B6A0CF98CB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8"/>
          <p:cNvSpPr/>
          <p:nvPr/>
        </p:nvSpPr>
        <p:spPr>
          <a:xfrm>
            <a:off x="228600" y="53341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2f2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2f2f2"/>
                </a:solidFill>
                <a:latin typeface="Arial"/>
              </a:rPr>
              <a:t>Homologous Structures:  </a:t>
            </a:r>
            <a:r>
              <a:rPr b="0" i="1" lang="en-US" sz="2000" spc="-1" strike="noStrike">
                <a:solidFill>
                  <a:srgbClr val="f2f2f2"/>
                </a:solidFill>
                <a:latin typeface="Arial"/>
              </a:rPr>
              <a:t>Similarities due to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2f2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2f2f2"/>
                </a:solidFill>
                <a:latin typeface="Arial"/>
              </a:rPr>
              <a:t>Analogous Structures:  </a:t>
            </a:r>
            <a:r>
              <a:rPr b="0" i="1" lang="en-US" sz="2000" spc="-1" strike="noStrike">
                <a:solidFill>
                  <a:srgbClr val="f2f2f2"/>
                </a:solidFill>
                <a:latin typeface="Arial"/>
              </a:rPr>
              <a:t>Similarities due to Convergent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10" descr="Elvis impersonators do not inherit their similarities"/>
          <p:cNvPicPr/>
          <p:nvPr/>
        </p:nvPicPr>
        <p:blipFill>
          <a:blip r:embed="rId2"/>
          <a:stretch/>
        </p:blipFill>
        <p:spPr>
          <a:xfrm>
            <a:off x="1752480" y="1676520"/>
            <a:ext cx="57913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6"/>
          <p:cNvSpPr/>
          <p:nvPr/>
        </p:nvSpPr>
        <p:spPr>
          <a:xfrm>
            <a:off x="228600" y="54100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orbel"/>
              </a:rPr>
              <a:t>Homologous Structures: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ructural features that have a similar evolutionary origin (common ances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4" descr="Fig"/>
          <p:cNvPicPr/>
          <p:nvPr/>
        </p:nvPicPr>
        <p:blipFill>
          <a:blip r:embed="rId1"/>
          <a:stretch/>
        </p:blipFill>
        <p:spPr>
          <a:xfrm>
            <a:off x="1600200" y="304920"/>
            <a:ext cx="6350040" cy="46479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7"/>
          <p:cNvSpPr/>
          <p:nvPr/>
        </p:nvSpPr>
        <p:spPr>
          <a:xfrm>
            <a:off x="1600200" y="4191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le 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4724280" y="838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codile 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6484320" y="27432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d 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9BD0-8D19-433A-9D1F-4A5CD8B8CC9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Tetrapod limbs with bones highlighted"/>
          <p:cNvPicPr/>
          <p:nvPr/>
        </p:nvPicPr>
        <p:blipFill>
          <a:blip r:embed="rId2"/>
          <a:stretch/>
        </p:blipFill>
        <p:spPr>
          <a:xfrm>
            <a:off x="838080" y="1676520"/>
            <a:ext cx="7239240" cy="48006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5"/>
          <p:cNvSpPr/>
          <p:nvPr/>
        </p:nvSpPr>
        <p:spPr>
          <a:xfrm>
            <a:off x="1066680" y="4952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6"/>
          <p:cNvSpPr/>
          <p:nvPr/>
        </p:nvSpPr>
        <p:spPr>
          <a:xfrm>
            <a:off x="2666880" y="1676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7"/>
          <p:cNvSpPr/>
          <p:nvPr/>
        </p:nvSpPr>
        <p:spPr>
          <a:xfrm>
            <a:off x="7010280" y="1828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7238880" y="5029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4" descr=""/>
          <p:cNvPicPr/>
          <p:nvPr/>
        </p:nvPicPr>
        <p:blipFill>
          <a:blip r:embed="rId1"/>
          <a:stretch/>
        </p:blipFill>
        <p:spPr>
          <a:xfrm>
            <a:off x="298440" y="73080"/>
            <a:ext cx="8699400" cy="1609560"/>
          </a:xfrm>
          <a:prstGeom prst="rect">
            <a:avLst/>
          </a:prstGeom>
          <a:ln w="0">
            <a:noFill/>
          </a:ln>
        </p:spPr>
      </p:pic>
      <p:sp>
        <p:nvSpPr>
          <p:cNvPr id="361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4EE5-F626-4DCD-82CE-17CB30EF330A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1066680" y="54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Analogous structures-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s with different evolutionary origin but are similar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SEA GULL"/>
          <p:cNvPicPr/>
          <p:nvPr/>
        </p:nvPicPr>
        <p:blipFill>
          <a:blip r:embed="rId2"/>
          <a:stretch/>
        </p:blipFill>
        <p:spPr>
          <a:xfrm>
            <a:off x="4800600" y="1981080"/>
            <a:ext cx="3616200" cy="27432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http://t2.gstatic.com/images?q=tbn:7pROm5ONABAykM:http://student.physics.upenn.edu/~aebrown/biocurious/insect-dorsa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19810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-55440" y="146160"/>
            <a:ext cx="9132840" cy="1268280"/>
          </a:xfrm>
          <a:prstGeom prst="rect">
            <a:avLst/>
          </a:prstGeom>
          <a:ln w="0">
            <a:noFill/>
          </a:ln>
        </p:spPr>
      </p:pic>
      <p:sp>
        <p:nvSpPr>
          <p:cNvPr id="366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A68C-310F-4018-B940-03F3E85A727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0" descr="This bird pollinates all three flowers, but prefers the long red ones."/>
          <p:cNvPicPr/>
          <p:nvPr/>
        </p:nvPicPr>
        <p:blipFill>
          <a:blip r:embed="rId2"/>
          <a:stretch/>
        </p:blipFill>
        <p:spPr>
          <a:xfrm>
            <a:off x="228600" y="1600200"/>
            <a:ext cx="3276720" cy="21049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0" descr="This bird pollinates all three flowers, but prefers the long red ones."/>
          <p:cNvPicPr/>
          <p:nvPr/>
        </p:nvPicPr>
        <p:blipFill>
          <a:blip r:embed="rId3"/>
          <a:stretch/>
        </p:blipFill>
        <p:spPr>
          <a:xfrm>
            <a:off x="5486400" y="4648320"/>
            <a:ext cx="3276720" cy="2104920"/>
          </a:xfrm>
          <a:prstGeom prst="rect">
            <a:avLst/>
          </a:prstGeom>
          <a:ln w="0">
            <a:noFill/>
          </a:ln>
        </p:spPr>
      </p:pic>
      <p:sp>
        <p:nvSpPr>
          <p:cNvPr id="369" name="TextBox 8"/>
          <p:cNvSpPr/>
          <p:nvPr/>
        </p:nvSpPr>
        <p:spPr>
          <a:xfrm>
            <a:off x="6400800" y="4648320"/>
            <a:ext cx="236232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the end, different species of flowers will evolve similar traits because they face similar environmental press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3352680" y="3200400"/>
            <a:ext cx="2286000" cy="19810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What will happen over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871560" y="146160"/>
            <a:ext cx="8510400" cy="1268280"/>
          </a:xfrm>
          <a:prstGeom prst="rect">
            <a:avLst/>
          </a:prstGeom>
          <a:ln w="0">
            <a:noFill/>
          </a:ln>
        </p:spPr>
      </p:pic>
      <p:sp>
        <p:nvSpPr>
          <p:cNvPr id="372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1C08-F252-46EB-BC5B-3FB6EB35D33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shark"/>
          <p:cNvPicPr/>
          <p:nvPr/>
        </p:nvPicPr>
        <p:blipFill>
          <a:blip r:embed="rId2"/>
          <a:stretch/>
        </p:blipFill>
        <p:spPr>
          <a:xfrm>
            <a:off x="1219320" y="1905120"/>
            <a:ext cx="2895480" cy="27432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dolphin"/>
          <p:cNvPicPr/>
          <p:nvPr/>
        </p:nvPicPr>
        <p:blipFill>
          <a:blip r:embed="rId3"/>
          <a:stretch/>
        </p:blipFill>
        <p:spPr>
          <a:xfrm>
            <a:off x="4267080" y="1905120"/>
            <a:ext cx="2819520" cy="2743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http://evolution.berkeley.edu/evolibrary/images/dot_clear.gif"/>
          <p:cNvPicPr/>
          <p:nvPr/>
        </p:nvPicPr>
        <p:blipFill>
          <a:blip r:embed="rId4"/>
          <a:stretch/>
        </p:blipFill>
        <p:spPr>
          <a:xfrm>
            <a:off x="0" y="0"/>
            <a:ext cx="1908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"/>
          <p:cNvGraphicFramePr/>
          <p:nvPr/>
        </p:nvGraphicFramePr>
        <p:xfrm>
          <a:off x="1219320" y="4724280"/>
          <a:ext cx="5867280" cy="185436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h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olp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keleton Made of Cartil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keleton of B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se Gills to Get Oxy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reathe air - Blow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on’t nurse their yo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urse their yo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o not have h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ave H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itle 1" descr=""/>
          <p:cNvPicPr/>
          <p:nvPr/>
        </p:nvPicPr>
        <p:blipFill>
          <a:blip r:embed="rId1"/>
          <a:stretch/>
        </p:blipFill>
        <p:spPr>
          <a:xfrm>
            <a:off x="225360" y="1852560"/>
            <a:ext cx="865044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78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5997-081B-4C19-9D1F-70ADC1D5CFB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http://t0.gstatic.com/images?q=tbn:-Ssoyr7txtmo1M:http://www.canids.org/gallery/Popup19385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3352680"/>
            <a:ext cx="2210040" cy="15242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http://t0.gstatic.com/images?q=tbn:EO7kl49DZnYcTM:http://briefwit.files.wordpress.com/2009/04/red-fox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520" y="502920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381" name="TextBox 6"/>
          <p:cNvSpPr/>
          <p:nvPr/>
        </p:nvSpPr>
        <p:spPr>
          <a:xfrm>
            <a:off x="5257800" y="1752480"/>
            <a:ext cx="37339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Convergent evolution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nrelated species evolve similar characteristics to adapt to sam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380880" y="1676520"/>
            <a:ext cx="38102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Divergent ev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ocess where 2 or more species become more &amp; more dis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0" descr="http://t1.gstatic.com/images?q=tbn:scXVpu3cC8KDfM:http://cactiguide.com/graphics/x_noncacti_euphorbia_600.jpg"/>
          <p:cNvPicPr/>
          <p:nvPr/>
        </p:nvPicPr>
        <p:blipFill>
          <a:blip r:embed="rId6"/>
          <a:stretch/>
        </p:blipFill>
        <p:spPr>
          <a:xfrm>
            <a:off x="5486400" y="3276720"/>
            <a:ext cx="2666880" cy="15238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http://t1.gstatic.com/images?q=tbn:r7p90xTmngBZnM:http://farm2.static.flickr.com/1268/980866302_0390d91e12.jpg"/>
          <p:cNvPicPr/>
          <p:nvPr/>
        </p:nvPicPr>
        <p:blipFill>
          <a:blip r:embed="rId7"/>
          <a:stretch/>
        </p:blipFill>
        <p:spPr>
          <a:xfrm>
            <a:off x="5486400" y="4952880"/>
            <a:ext cx="26668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4" descr=""/>
          <p:cNvPicPr/>
          <p:nvPr/>
        </p:nvPicPr>
        <p:blipFill>
          <a:blip r:embed="rId1"/>
          <a:stretch/>
        </p:blipFill>
        <p:spPr>
          <a:xfrm>
            <a:off x="55440" y="353880"/>
            <a:ext cx="8856720" cy="1024200"/>
          </a:xfrm>
          <a:prstGeom prst="rect">
            <a:avLst/>
          </a:prstGeom>
          <a:ln w="0">
            <a:noFill/>
          </a:ln>
        </p:spPr>
      </p:pic>
      <p:sp>
        <p:nvSpPr>
          <p:cNvPr id="386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6EAC-ADD1-4FC1-A974-DB7792BA70DF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6"/>
          <p:cNvSpPr/>
          <p:nvPr/>
        </p:nvSpPr>
        <p:spPr>
          <a:xfrm>
            <a:off x="304920" y="54100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Vestigial structures-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-over structures in present day organisms that no longer serves its original purpose but was useful to an anc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http://txtwriter.com/Backgrounders/graphics/evolution/page12.jpg"/>
          <p:cNvPicPr/>
          <p:nvPr/>
        </p:nvPicPr>
        <p:blipFill>
          <a:blip r:embed="rId2"/>
          <a:stretch/>
        </p:blipFill>
        <p:spPr>
          <a:xfrm>
            <a:off x="1676520" y="1981080"/>
            <a:ext cx="5410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394840" cy="1877760"/>
          </a:xfrm>
          <a:prstGeom prst="rect">
            <a:avLst/>
          </a:prstGeom>
          <a:ln w="0">
            <a:noFill/>
          </a:ln>
        </p:spPr>
      </p:pic>
      <p:sp>
        <p:nvSpPr>
          <p:cNvPr id="390" name="TextBox 3"/>
          <p:cNvSpPr/>
          <p:nvPr/>
        </p:nvSpPr>
        <p:spPr>
          <a:xfrm>
            <a:off x="228600" y="1371600"/>
            <a:ext cx="8686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f2f2f2"/>
                </a:solidFill>
                <a:latin typeface="Corbel"/>
              </a:rPr>
              <a:t>Most Reliable source of evidence for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f2f2f2"/>
                </a:solidFill>
                <a:latin typeface="Corbel"/>
              </a:rPr>
              <a:t>Similar  DNA, RNA &amp; biochemicals are shared amo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ffc000"/>
                </a:solidFill>
                <a:latin typeface="Corbel"/>
              </a:rPr>
              <a:t>More shared biochemicals = More recently shared common ance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603360" y="1805040"/>
            <a:ext cx="80899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itle 3" descr=""/>
          <p:cNvPicPr/>
          <p:nvPr/>
        </p:nvPicPr>
        <p:blipFill>
          <a:blip r:embed="rId1"/>
          <a:stretch/>
        </p:blipFill>
        <p:spPr>
          <a:xfrm>
            <a:off x="622440" y="1584360"/>
            <a:ext cx="82468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le 3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089920" cy="11952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http://t0.gstatic.com/images?q=tbn:o_1sL9P3jeyQyM:http://www.sciencemuseum.org.uk/on-line/lifecycle/images/1-2-3-1-5-0-0-0-0-0-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1523880"/>
            <a:ext cx="1382760" cy="2057400"/>
          </a:xfrm>
          <a:prstGeom prst="rect">
            <a:avLst/>
          </a:prstGeom>
          <a:ln w="0">
            <a:noFill/>
          </a:ln>
        </p:spPr>
      </p:pic>
      <p:sp>
        <p:nvSpPr>
          <p:cNvPr id="282" name="TextBox 6"/>
          <p:cNvSpPr/>
          <p:nvPr/>
        </p:nvSpPr>
        <p:spPr>
          <a:xfrm>
            <a:off x="45720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2362320" y="342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0" descr="http://www.talkorigins.org/faqs/comdesc/images/dolphin_embryo.jpg"/>
          <p:cNvPicPr/>
          <p:nvPr/>
        </p:nvPicPr>
        <p:blipFill>
          <a:blip r:embed="rId4"/>
          <a:stretch/>
        </p:blipFill>
        <p:spPr>
          <a:xfrm>
            <a:off x="3200400" y="1600200"/>
            <a:ext cx="1343160" cy="1905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http://embryology.med.unsw.edu.au/movies/pig.gif"/>
          <p:cNvPicPr/>
          <p:nvPr/>
        </p:nvPicPr>
        <p:blipFill>
          <a:blip r:embed="rId5"/>
          <a:stretch/>
        </p:blipFill>
        <p:spPr>
          <a:xfrm>
            <a:off x="7010280" y="1676520"/>
            <a:ext cx="1371600" cy="16761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http://www.microscopy-uk.org.uk/mag/imgnov04macro/comp1.jpg"/>
          <p:cNvPicPr/>
          <p:nvPr/>
        </p:nvPicPr>
        <p:blipFill>
          <a:blip r:embed="rId6"/>
          <a:stretch/>
        </p:blipFill>
        <p:spPr>
          <a:xfrm>
            <a:off x="0" y="1219320"/>
            <a:ext cx="2971800" cy="259056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7"/>
          <p:cNvSpPr/>
          <p:nvPr/>
        </p:nvSpPr>
        <p:spPr>
          <a:xfrm>
            <a:off x="0" y="1219320"/>
            <a:ext cx="1066680" cy="2361960"/>
          </a:xfrm>
          <a:prstGeom prst="rect">
            <a:avLst/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3"/>
          <p:cNvSpPr/>
          <p:nvPr/>
        </p:nvSpPr>
        <p:spPr>
          <a:xfrm>
            <a:off x="380880" y="54864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Choices:     Pig       Human      Chicken       Dolph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4"/>
          <p:cNvSpPr/>
          <p:nvPr/>
        </p:nvSpPr>
        <p:spPr>
          <a:xfrm>
            <a:off x="2057400" y="3886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3657600" y="3886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1"/>
          <p:cNvSpPr/>
          <p:nvPr/>
        </p:nvSpPr>
        <p:spPr>
          <a:xfrm>
            <a:off x="5410080" y="3886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2"/>
          <p:cNvSpPr/>
          <p:nvPr/>
        </p:nvSpPr>
        <p:spPr>
          <a:xfrm>
            <a:off x="7315200" y="3886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4"/>
          <p:cNvSpPr/>
          <p:nvPr/>
        </p:nvSpPr>
        <p:spPr>
          <a:xfrm>
            <a:off x="228600" y="54864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Choices:        Human, Pig, Dolphin, Chicken, Fish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6" descr="http://www.google.com/images?q=tbn:saN1A83yi4OD0M::www.genetik.uni-koeln.de/groups/Leptin/images_leptin-home/fish_embryo1.jpg&amp;t=1&amp;h=196&amp;w=183&amp;usg=__ZeyKF4AUZLIVcCzn8bzmi1mq1WA=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1676520"/>
            <a:ext cx="1371600" cy="186696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6"/>
          <p:cNvSpPr/>
          <p:nvPr/>
        </p:nvSpPr>
        <p:spPr>
          <a:xfrm>
            <a:off x="609480" y="38862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Title 1" descr=""/>
          <p:cNvPicPr/>
          <p:nvPr/>
        </p:nvPicPr>
        <p:blipFill>
          <a:blip r:embed="rId1"/>
          <a:stretch/>
        </p:blipFill>
        <p:spPr>
          <a:xfrm>
            <a:off x="1311120" y="30240"/>
            <a:ext cx="8375760" cy="187776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"/>
          <p:cNvSpPr/>
          <p:nvPr/>
        </p:nvSpPr>
        <p:spPr>
          <a:xfrm>
            <a:off x="762120" y="1676520"/>
            <a:ext cx="8076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orbe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What are some of the similarities you noti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What are some of the dif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What does this has to do with ev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2" descr="http://embryology.med.unsw.edu.au/movies/pig.gif"/>
          <p:cNvPicPr/>
          <p:nvPr/>
        </p:nvPicPr>
        <p:blipFill>
          <a:blip r:embed="rId2"/>
          <a:stretch/>
        </p:blipFill>
        <p:spPr>
          <a:xfrm>
            <a:off x="6934320" y="518148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" descr="http://t0.gstatic.com/images?q=tbn:o_1sL9P3jeyQyM:http://www.sciencemuseum.org.uk/on-line/lifecycle/images/1-2-3-1-5-0-0-0-0-0-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5181480"/>
            <a:ext cx="1382760" cy="16765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http://www.talkorigins.org/faqs/comdesc/images/dolphin_embryo.jpg"/>
          <p:cNvPicPr/>
          <p:nvPr/>
        </p:nvPicPr>
        <p:blipFill>
          <a:blip r:embed="rId5"/>
          <a:stretch/>
        </p:blipFill>
        <p:spPr>
          <a:xfrm>
            <a:off x="2971800" y="5181480"/>
            <a:ext cx="1343160" cy="16765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http://www.microscopy-uk.org.uk/mag/imgnov04macro/comp1.jpg"/>
          <p:cNvPicPr/>
          <p:nvPr/>
        </p:nvPicPr>
        <p:blipFill>
          <a:blip r:embed="rId6"/>
          <a:stretch/>
        </p:blipFill>
        <p:spPr>
          <a:xfrm>
            <a:off x="304920" y="5181480"/>
            <a:ext cx="2057400" cy="16765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8"/>
          <p:cNvSpPr/>
          <p:nvPr/>
        </p:nvSpPr>
        <p:spPr>
          <a:xfrm>
            <a:off x="0" y="5181480"/>
            <a:ext cx="1295280" cy="1676520"/>
          </a:xfrm>
          <a:prstGeom prst="rect">
            <a:avLst/>
          </a:prstGeom>
          <a:solidFill>
            <a:srgbClr val="434a5a"/>
          </a:solidFill>
          <a:ln w="47880">
            <a:solidFill>
              <a:srgbClr val="434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3" descr=""/>
          <p:cNvPicPr/>
          <p:nvPr/>
        </p:nvPicPr>
        <p:blipFill>
          <a:blip r:embed="rId1"/>
          <a:stretch/>
        </p:blipFill>
        <p:spPr>
          <a:xfrm>
            <a:off x="133200" y="49320"/>
            <a:ext cx="8686800" cy="11761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http://t0.gstatic.com/images?q=tbn:o_1sL9P3jeyQyM:http://www.sciencemuseum.org.uk/on-line/lifecycle/images/1-2-3-1-5-0-0-0-0-0-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1523880"/>
            <a:ext cx="1382760" cy="20574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6"/>
          <p:cNvSpPr/>
          <p:nvPr/>
        </p:nvSpPr>
        <p:spPr>
          <a:xfrm>
            <a:off x="45720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8"/>
          <p:cNvSpPr/>
          <p:nvPr/>
        </p:nvSpPr>
        <p:spPr>
          <a:xfrm>
            <a:off x="2362320" y="342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0" descr="http://www.talkorigins.org/faqs/comdesc/images/dolphin_embryo.jpg"/>
          <p:cNvPicPr/>
          <p:nvPr/>
        </p:nvPicPr>
        <p:blipFill>
          <a:blip r:embed="rId4"/>
          <a:stretch/>
        </p:blipFill>
        <p:spPr>
          <a:xfrm>
            <a:off x="3200400" y="1600200"/>
            <a:ext cx="1343160" cy="1905120"/>
          </a:xfrm>
          <a:prstGeom prst="rect">
            <a:avLst/>
          </a:prstGeom>
          <a:ln w="0">
            <a:noFill/>
          </a:ln>
        </p:spPr>
      </p:pic>
      <p:sp>
        <p:nvSpPr>
          <p:cNvPr id="308" name="TextBox 12"/>
          <p:cNvSpPr/>
          <p:nvPr/>
        </p:nvSpPr>
        <p:spPr>
          <a:xfrm>
            <a:off x="3429000" y="388620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Dolp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http://embryology.med.unsw.edu.au/movies/pig.gif"/>
          <p:cNvPicPr/>
          <p:nvPr/>
        </p:nvPicPr>
        <p:blipFill>
          <a:blip r:embed="rId5"/>
          <a:stretch/>
        </p:blipFill>
        <p:spPr>
          <a:xfrm>
            <a:off x="7010280" y="1676520"/>
            <a:ext cx="1371600" cy="16761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5" descr="http://www.microscopy-uk.org.uk/mag/imgnov04macro/comp1.jpg"/>
          <p:cNvPicPr/>
          <p:nvPr/>
        </p:nvPicPr>
        <p:blipFill>
          <a:blip r:embed="rId6"/>
          <a:stretch/>
        </p:blipFill>
        <p:spPr>
          <a:xfrm>
            <a:off x="0" y="1295280"/>
            <a:ext cx="2971800" cy="25909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17"/>
          <p:cNvSpPr/>
          <p:nvPr/>
        </p:nvSpPr>
        <p:spPr>
          <a:xfrm>
            <a:off x="0" y="1219320"/>
            <a:ext cx="1066680" cy="2361960"/>
          </a:xfrm>
          <a:prstGeom prst="rect">
            <a:avLst/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8"/>
          <p:cNvSpPr/>
          <p:nvPr/>
        </p:nvSpPr>
        <p:spPr>
          <a:xfrm>
            <a:off x="7315200" y="38862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P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9"/>
          <p:cNvSpPr/>
          <p:nvPr/>
        </p:nvSpPr>
        <p:spPr>
          <a:xfrm>
            <a:off x="1676520" y="388620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Chic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0"/>
          <p:cNvSpPr/>
          <p:nvPr/>
        </p:nvSpPr>
        <p:spPr>
          <a:xfrm>
            <a:off x="53341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u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6" descr="http://www.google.com/images?q=tbn:saN1A83yi4OD0M::www.genetik.uni-koeln.de/groups/Leptin/images_leptin-home/fish_embryo1.jpg&amp;t=1&amp;h=196&amp;w=183&amp;usg=__ZeyKF4AUZLIVcCzn8bzmi1mq1WA=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1676520"/>
            <a:ext cx="1371600" cy="1866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4"/>
          <p:cNvSpPr/>
          <p:nvPr/>
        </p:nvSpPr>
        <p:spPr>
          <a:xfrm>
            <a:off x="457200" y="3886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5"/>
          <p:cNvSpPr/>
          <p:nvPr/>
        </p:nvSpPr>
        <p:spPr>
          <a:xfrm>
            <a:off x="990720" y="55627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Arial"/>
              </a:rPr>
              <a:t>Pharyngeal p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3" descr=""/>
          <p:cNvPicPr/>
          <p:nvPr/>
        </p:nvPicPr>
        <p:blipFill>
          <a:blip r:embed="rId1"/>
          <a:stretch/>
        </p:blipFill>
        <p:spPr>
          <a:xfrm>
            <a:off x="603360" y="30240"/>
            <a:ext cx="8089920" cy="1347840"/>
          </a:xfrm>
          <a:prstGeom prst="rect">
            <a:avLst/>
          </a:prstGeom>
          <a:ln w="0">
            <a:noFill/>
          </a:ln>
        </p:spPr>
      </p:pic>
      <p:sp>
        <p:nvSpPr>
          <p:cNvPr id="319" name="TextBox 5"/>
          <p:cNvSpPr/>
          <p:nvPr/>
        </p:nvSpPr>
        <p:spPr>
          <a:xfrm>
            <a:off x="457200" y="1409760"/>
            <a:ext cx="8381880" cy="70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At early development, many organisms look very simi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Certain Structures look identical as an embryo but become specialized structures as an adult  (</a:t>
            </a:r>
            <a:r>
              <a:rPr b="1" i="1" lang="en-US" sz="2800" spc="-1" strike="noStrike">
                <a:solidFill>
                  <a:srgbClr val="000000"/>
                </a:solidFill>
                <a:latin typeface="Corbel"/>
              </a:rPr>
              <a:t>Pharyngeal gill slits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Corbel"/>
              </a:rPr>
              <a:t>This suggests:    </a:t>
            </a:r>
            <a:r>
              <a:rPr b="1" lang="en-US" sz="2800" spc="-1" strike="noStrike">
                <a:solidFill>
                  <a:srgbClr val="ffc000"/>
                </a:solidFill>
                <a:latin typeface="Corbel"/>
              </a:rPr>
              <a:t>Species evolved from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Corbel"/>
              </a:rPr>
              <a:t>Common</a:t>
            </a:r>
            <a:r>
              <a:rPr b="1" lang="en-US" sz="2800" spc="-1" strike="noStrike">
                <a:solidFill>
                  <a:srgbClr val="ffc000"/>
                </a:solidFill>
                <a:latin typeface="Corbel"/>
              </a:rPr>
              <a:t>, distant ance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3" descr=""/>
          <p:cNvPicPr/>
          <p:nvPr/>
        </p:nvPicPr>
        <p:blipFill>
          <a:blip r:embed="rId1"/>
          <a:stretch/>
        </p:blipFill>
        <p:spPr>
          <a:xfrm>
            <a:off x="378000" y="-42840"/>
            <a:ext cx="8089560" cy="1195200"/>
          </a:xfrm>
          <a:prstGeom prst="rect">
            <a:avLst/>
          </a:prstGeom>
          <a:ln w="0">
            <a:noFill/>
          </a:ln>
        </p:spPr>
      </p:pic>
      <p:pic>
        <p:nvPicPr>
          <p:cNvPr id="321" name="TextBox 5" descr=""/>
          <p:cNvPicPr/>
          <p:nvPr/>
        </p:nvPicPr>
        <p:blipFill>
          <a:blip r:embed="rId2"/>
          <a:stretch/>
        </p:blipFill>
        <p:spPr>
          <a:xfrm>
            <a:off x="23760" y="1238400"/>
            <a:ext cx="874872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089920" cy="18781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http://home.cogeco.ca/~lunker/but021.gif"/>
          <p:cNvPicPr/>
          <p:nvPr/>
        </p:nvPicPr>
        <p:blipFill>
          <a:blip r:embed="rId2"/>
          <a:stretch/>
        </p:blipFill>
        <p:spPr>
          <a:xfrm>
            <a:off x="228600" y="1523880"/>
            <a:ext cx="3962520" cy="31212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4" descr="http://www.lakeshorepreserve.wisc.edu/insect-images/images/10_1%20monarch%20butterfly_JP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43400" y="1557360"/>
            <a:ext cx="4267080" cy="3085920"/>
          </a:xfrm>
          <a:prstGeom prst="rect">
            <a:avLst/>
          </a:prstGeom>
          <a:ln w="0">
            <a:noFill/>
          </a:ln>
        </p:spPr>
      </p:pic>
      <p:sp>
        <p:nvSpPr>
          <p:cNvPr id="325" name="TextBox 13"/>
          <p:cNvSpPr/>
          <p:nvPr/>
        </p:nvSpPr>
        <p:spPr>
          <a:xfrm>
            <a:off x="1219320" y="4724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Vice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4"/>
          <p:cNvSpPr/>
          <p:nvPr/>
        </p:nvSpPr>
        <p:spPr>
          <a:xfrm>
            <a:off x="6095880" y="4724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on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6"/>
          <p:cNvSpPr/>
          <p:nvPr/>
        </p:nvSpPr>
        <p:spPr>
          <a:xfrm>
            <a:off x="4495680" y="1600200"/>
            <a:ext cx="3962520" cy="3048120"/>
          </a:xfrm>
          <a:prstGeom prst="ellipse">
            <a:avLst/>
          </a:prstGeom>
          <a:noFill/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7"/>
          <p:cNvSpPr/>
          <p:nvPr/>
        </p:nvSpPr>
        <p:spPr>
          <a:xfrm>
            <a:off x="3276720" y="56386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Example o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rbel"/>
              </a:rPr>
              <a:t>Mimicry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8"/>
          <p:cNvSpPr/>
          <p:nvPr/>
        </p:nvSpPr>
        <p:spPr>
          <a:xfrm>
            <a:off x="609480" y="5638680"/>
            <a:ext cx="8305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micry:  </a:t>
            </a:r>
            <a:r>
              <a:rPr b="0" i="1" lang="en-US" sz="2400" spc="-1" strike="noStrike">
                <a:solidFill>
                  <a:srgbClr val="ffc000"/>
                </a:solidFill>
                <a:latin typeface="Arial"/>
              </a:rPr>
              <a:t>A structural adaptation that enables one species to resemble another spe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7:45:10Z</dcterms:created>
  <dc:creator>cce</dc:creator>
  <dc:description/>
  <dc:language>en-US</dc:language>
  <cp:lastModifiedBy>Ashley_Borden</cp:lastModifiedBy>
  <dcterms:modified xsi:type="dcterms:W3CDTF">2010-02-23T13:08:51Z</dcterms:modified>
  <cp:revision>59</cp:revision>
  <dc:subject/>
  <dc:title>EVIDENCE FOR EVOLUTION</dc:title>
</cp:coreProperties>
</file>